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26A-6226-4186-A5BE-F6F17ABB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F28-AA57-4A1C-93BD-393990D7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314-95BF-46B0-86A3-B2383FE9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9F2-9DAA-416C-AB20-51F5FCEC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A3A-3723-48DF-BD0C-4BC26659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D45-A993-4591-9FE4-00BDEF18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113C-26E3-4190-9851-A27D6D95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40D-63CC-4757-877B-63590B70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6460-CABE-424D-9C11-6B82C36E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D6F-8D51-41B0-B0F3-654EA64D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809-AE98-4370-8F3E-9F4FE80A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67A-71BA-4BBB-8E77-748B2C88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FA02-C98C-4B16-90E8-A20965F51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 CP/GHP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2 Identifying Minerals (slide 1)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and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ow a mineral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how it reflects light from surfa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lic (looks like gold, silver, copper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tallic (dull, glassy, pearly, waxy, silk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x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feel (smooth, rough, greas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ea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owder left on a porcelain 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2 Identifying Minerals (slid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d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w easily it can be scratch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Moh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heets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 Fractu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rc like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 mineral brea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a cleaves in perfect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easure of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a mineral that is useful and mined for a profi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al, iron, salt, aluminum, titan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rare and beautifu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amonds, emeralds, rub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ce 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fect the color and valu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lky, amethyst, rose, &amp; smoky quart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 What is a miner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urally occur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g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xed chemical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ystal lat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liquid or a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e shapes and 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= wa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= steam (evaporation/sublimation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= 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ly Occurring &amp; Inorga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naturally, not man-ma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snowflakes, human teeth, amethy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ive and never wa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ble sal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mineral 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g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t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mineral 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t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meralds minerals but not pear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xed chemical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ineral has a composition unique to that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and sulfur are singl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z (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is composed of 1 atom of silicon and 2 atoms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stal lat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 crystallize in regular geometric patterns that are repeated again and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major shapes of crysta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 they come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Mag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er moving = larger crysta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moving = smaller crys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olu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evaporates = crysta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ndwater, cave water, surface water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ill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 Groups (slid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lic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ntain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ne or mo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6% of Earth’s cru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z =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dspar = KAlS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vine = M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ntain Oxygen &amp; a me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atite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etite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 groups (slid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lf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mbine with sulfu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ite Fe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ates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l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have Cl or F + Ca, Na, 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l = h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bon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ave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te (Ca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and dolomite are minera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estone, coquina &amp; marble are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old (Au), silver (Ag), copper (C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45:32Z</dcterms:created>
  <dc:creator>staff</dc:creator>
  <dc:description/>
  <dc:language>en-US</dc:language>
  <cp:lastModifiedBy>staff</cp:lastModifiedBy>
  <dcterms:modified xsi:type="dcterms:W3CDTF">2007-11-30T15:54:36Z</dcterms:modified>
  <cp:revision>9</cp:revision>
  <dc:subject/>
  <dc:title>Minerals</dc:title>
</cp:coreProperties>
</file>